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0A54-5351-4134-974A-7D15F68A2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5F7F-304E-4784-9992-206E40E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7E70-0EF2-4B70-8682-1E9203A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CC80-C029-4414-AC84-A602A3871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C939-2BCD-442B-9222-CE212409F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6B71E-23CC-4D16-8797-ECEE475B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0EE29-89F2-4D7E-A022-BA55D47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E8CBF-1577-4EE2-8D50-13AA6DE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3CCEA-8B2C-4CBF-98B0-AA65D752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F0337-3CD5-4036-8AB1-4566ABF9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DEE81-94A5-4CCC-A653-D69AD62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54C3-D9C5-40D7-948B-0ED600FF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301D4-5854-4992-B19E-897E77C7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42816-07FE-42B6-B1C7-1733DC8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C977B-BCAB-4860-8072-DC255AF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D9BC-F18B-4C25-958D-A5F8EE6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5A2F-61BF-41D1-B441-72E07A1C9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D6BB-0DD9-4BCA-93F3-8A502C8BF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B66E-C2EE-42FB-83C8-C41427E5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FC7-8C4B-4C22-8B10-99E7A37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3289-7360-49AE-B487-4D8E5178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1A22-B07C-4F12-9590-4D6C8136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6343-BB11-4DE6-9CB9-75B7DB7A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9A7-8A03-4170-A823-373185D7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B3A-486B-4E34-A0BD-D7F43F7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B77-801E-438E-9C7D-82C838C0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4CB-2C8B-4C8F-81E5-2C2A2FA2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8F7-F51D-41AE-9C2E-6A996860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0CFB-04A6-4B23-896A-1D73F1C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A8DB-5543-4EDC-992D-79DA6FC40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B4F39-469B-4836-8BF7-512B54035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F984F-6084-4328-B678-47EA32F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C7F06-E3A6-40A2-AFE1-2422F35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4185-D063-45C8-83BF-6F493F5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A51FF-7F13-45E2-82CD-FA8996F3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20F04-792D-4F51-99BA-F48B18E5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5661A-8A98-48FB-A3F4-53C843DC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2F074-FF41-4463-A0DD-AABEA53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AD0C7-7159-4F83-8E05-182B8890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B7AB-F891-444E-A12E-0E4A16D3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D1263-CCA4-4CDC-9BF7-AE971DF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636B9-8147-40A3-B0EE-2D1DA4E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CF7C6-B679-4D69-BDDC-B2CE7D0B7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7B465-828F-475E-9E80-70224E923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E31B-1F61-4952-A304-0B2F025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25552-1850-4ED7-8D25-9183F96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8BD77-791D-426F-82C7-0BBF6CA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70CF5-B93F-476A-9C80-6E041BE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2DFB6-BB3F-494F-AB4B-1DEFA8E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BF0FD-377F-4185-9AFA-61D7E50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53482-24D2-4770-A24C-5B0904E7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5BC0D-59B9-4A30-8AA0-5BD0583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96652-BC0E-46B9-9053-87497C6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D71B5-00EB-4C6A-AD57-6B87633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2F3AD-B1FE-4B68-BD4C-CAF0B21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08DE-E6FA-4849-8023-86AE2420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3E80D-CADE-48E0-AEC2-DEC944C36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D89E-534A-4CEA-B1B6-BA593C2F7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CE17-B4DE-4EA9-A421-DFE4FA2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7117-5154-436D-837C-1E08AE13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96E86-8E8B-4883-878A-21D2EB9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77CD-0F8A-4C4F-AF39-18FEF9A5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BA08-2CBD-46CD-A77F-644D3CE4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B648-2699-4D8F-B20D-898E8B35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D572-78B7-45A0-BA0D-390408A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C622-E86B-47AE-A0EE-DA4F865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FCC4-6AD6-439D-9414-C4744BE6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F0CE-BA6E-4D8F-829B-F00F8A1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1343-7233-4AA4-80D9-2F8BF18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D360-17BE-42D4-B745-7842F5DAE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DC992-78DC-4190-BC63-6AE8DDF86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07D51-0C2D-49B9-862D-F3F1931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AEFC7-E6F7-4C13-8E02-58C09F39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6512C-F66F-4030-B1FE-321A7BF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AFA08-C07D-42CB-882E-D7C9DBEE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595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2822E-613C-4E7C-AEC7-9F802E1C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81245-16FF-4992-84A8-7C9AE4C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1DD2-4D6B-49CD-8FEF-256DC19B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29551-3CF1-43C7-83F6-2AFFD8A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FD596-77D3-4C91-B244-DC6E353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0DD95-DF24-4199-A839-F4433FE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79320" y="414216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167EA-EE1B-4994-835B-F712B15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790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0800" y="160020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790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0800" y="4142160"/>
            <a:ext cx="2401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D2186-6C89-44B8-9057-6C528416A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79320" y="1600200"/>
            <a:ext cx="36399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2160"/>
            <a:ext cx="7459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C53E-3358-4060-8125-C57644F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7F4D6-9463-401D-A9A8-4AA07D29C5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068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84440" y="414324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F9BF7-3421-458F-AC18-C759B5527CF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4D795-1175-4D78-9671-86F0971ADC7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440"/>
            <a:ext cx="2278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84440" y="4140000"/>
            <a:ext cx="3657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9120"/>
            <a:ext cx="601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4EDE0-4E18-445F-8971-3647B9CBBE1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7981D-6488-49E4-AC33-06995291E12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2A1A-D664-45EE-939F-ED56812A840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595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595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1800" indent="-266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7928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54040" indent="-177840">
              <a:spcBef>
                <a:spcPts val="601"/>
              </a:spcBef>
              <a:buClr>
                <a:srgbClr val="fec3ae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54040" indent="-17784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6400"/>
            <a:ext cx="200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Lucida Sans Unicode"/>
              </a:rPr>
              <a:t>02/1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1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7CDFC-D047-49FE-83DC-19BD056FC9B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7680" y="3689640"/>
            <a:ext cx="3200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6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2eGoHk9AAc" TargetMode="External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304920"/>
            <a:ext cx="762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LEEP DISORDER: RESTLESS LEGS SYNDROME (RLS)</a:t>
            </a:r>
            <a:r>
              <a:rPr b="1" lang="ar-SA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rica, Muneera, Shakiba, Wakil, M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5330880"/>
            <a:ext cx="69339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 OF R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rological dis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acterized by unpleasant sensations in the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% of the U.S. population have R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most 1 million school age children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en wrongly attribute  by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specific test to identify 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761976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YMPTOMS OF R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600200"/>
            <a:ext cx="82296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ncomfortable sensations in the le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srupted 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fficulty falling asleep and staying a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xhaustion and daytime fati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920" y="5062680"/>
            <a:ext cx="7619760" cy="167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000" spc="-1" strike="noStrike">
                <a:solidFill>
                  <a:srgbClr val="575f6d"/>
                </a:solidFill>
                <a:latin typeface="Century Schoolbook"/>
              </a:rPr>
              <a:t>HOW DOES IT FEEL LIK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95160" y="1676520"/>
            <a:ext cx="4789800" cy="4566960"/>
            <a:chOff x="695160" y="1676520"/>
            <a:chExt cx="4789800" cy="456696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rcRect l="-3425" t="0" r="-3425" b="0"/>
            <a:stretch/>
          </p:blipFill>
          <p:spPr>
            <a:xfrm>
              <a:off x="695160" y="1676520"/>
              <a:ext cx="4789800" cy="4566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695160" y="1676520"/>
              <a:ext cx="4789800" cy="45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057400" cy="45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74674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Causes of RL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7696080" cy="1695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298520"/>
            <a:ext cx="769608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Heredity.      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Pregnanc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Related condition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Peripheral neuropath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Iron deficienc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Kidney failur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206208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3844800" y="2971800"/>
            <a:ext cx="1870200" cy="1600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715000" y="2971800"/>
            <a:ext cx="1666800" cy="1828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7315200" y="1495440"/>
            <a:ext cx="13716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TREATMENTS AND/OR CURES OF R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2296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 primary 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void substance/foo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hat may cause worsening or probl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reat underling medical condit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hysical therapy/self-car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aily medication is recommende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www.webmd.com/sleep-disorders/tc/restless-legs-syndrome-rls-treatment-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76960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543800" y="1523880"/>
            <a:ext cx="1057320" cy="762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1943280" cy="1447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7238880" y="220968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46136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ideo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746136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entury Schoolbook"/>
                <a:hlinkClick r:id="rId1"/>
              </a:rPr>
              <a:t>http://www.youtube.com/watch?v=k2eGoHk9A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hlone College</dc:creator>
  <dc:description/>
  <dc:language>en-US</dc:language>
  <cp:lastModifiedBy>vcurtis</cp:lastModifiedBy>
  <dcterms:modified xsi:type="dcterms:W3CDTF">2011-03-07T20:14:14Z</dcterms:modified>
  <cp:revision>1</cp:revision>
  <dc:subject/>
  <dc:title>Restless leg syndrome Fact Sheet </dc:title>
</cp:coreProperties>
</file>